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A8C8-3BA0-4FBA-8754-DFC660C37C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E00B-C89E-4051-9DE4-BC5A767C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76F9-597D-48E4-B3C6-818A1478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20E5D-331C-4542-83CD-3BE94E05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6E4A-5C95-4C82-B580-2A52A9E6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0581-7096-4798-A79F-F9B954C1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52B2-AB76-4B28-831C-069A7E58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FEFE-3E2A-4B4D-89C2-307CC77C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BF10-80E5-4567-91E1-838AD855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3615-6856-4715-A91A-E9BB462D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5F690-B985-4413-B180-F98378C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20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59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20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59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8F79-1F5C-44DC-9E76-2A7335996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5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  T.Tammet    Programmeerimine </a:t>
            </a:r>
            <a:r>
              <a:rPr b="1" lang="et-EE" sz="1000" spc="-1" strike="noStrike">
                <a:solidFill>
                  <a:srgbClr val="6666ff"/>
                </a:solidFill>
                <a:latin typeface="Arial"/>
              </a:rPr>
              <a:t>      1</a:t>
            </a: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  loeng 1 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BC2EF684-6B1E-4E71-A922-507FCB7DE43A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0C72-0783-49E9-A618-5249F3B3268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th.hws.edu/javanotes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va.sun.com/j2se/downloads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põhi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I001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</a:t>
            </a: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esialgne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loengukav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ssejuhatus, meeldetuletus, Java kasutamine, Java ja C võrdlus, lihtsad näite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htimiskonstruktsioonid ja tsüklid. Funktsioonid ehk alamprogrammid. Lühisissejuhatus klassidesse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med. Massiivid ja struktuurid. Failid. Võrk. Veatöötl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ide kasutamise jätk. Binaarne otsing, sorteerimine, rekursio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rteerimise jätk. Seejärel: objektid ja klassi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ktide jätk. Seejärel: Graafika ja kasutajaliid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sutajaliides: komponendid, sündm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lmas praktikum: olulist, näiteid võrgurakendu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lmas praktikum: olulist, näiteid GUI tegemis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 tegemise lisainfot. Otsingualgoritmide alg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singualgoritmide jätk. Neljanda praktikumi sissejuhat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rukamad andmestruktuurid. Puud, has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ldiste süntaksianalüü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id, threadid ja protsessid: paralleeltöö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ndusmetoodikad ja abivahendi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RDAMINE JA RE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2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mi kirjutamise etapid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the program text into the computer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ing the program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ning the compiled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step - running the program - either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- program running without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t- program running in a www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ervl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rogram running in a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web)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Java: APPLIC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elloWorld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 program to display the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"Hello World!" on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// end of class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pileerim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elloWorld.jav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elloWorld.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me käsurealt käim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cal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with a defini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3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ava: APPL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38080" y="380880"/>
            <a:ext cx="7770600" cy="303120"/>
            <a:chOff x="838080" y="380880"/>
            <a:chExt cx="7770600" cy="303120"/>
          </a:xfrm>
        </p:grpSpPr>
        <p:sp>
          <p:nvSpPr>
            <p:cNvPr id="143" name=""/>
            <p:cNvSpPr/>
            <p:nvPr/>
          </p:nvSpPr>
          <p:spPr>
            <a:xfrm>
              <a:off x="838080" y="68400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608680" y="38088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923400" y="4038480"/>
            <a:ext cx="57891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ileerime:  javac Helloa.jav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lloa.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ML faili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e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e on Hello apple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pplet code =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loa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width=120 height=120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lo applet lopp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awt.*  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elloa extends App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ize(300, 50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blic void paint(Graphics g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.drawString("Hello", 10,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piler,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50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664240" cy="113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ecuting byteco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56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933960" cy="207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gram class structu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is defined by a public class tha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gram-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al-variable-declarations-and-sub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6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s &amp; primitive nam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 n  rate  x15   a_long_nam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me_is_$   Hello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lloWorld, helloworld, HELLOWORLD, and hElloWorLD are all distinct n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ed words includ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, public, static, if, else, while, and several dozen other wor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ssignment statement take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est = rate * principa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6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ry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types built into it, and you (as a programmer) can create as many more as you wa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other than the primitive data typ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the other data in a Java program will be represented as an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o there is a fundamental split in the data a Java program deals with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Primitive types       |       Objects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|                      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------------------+----------------------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imitive TYP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mitive types are nam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te, short, int, long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, doubl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two bytes (16 bits). Variables of type short have values in the range -32768 to 3276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four bytes (32 bits). Variables of type int have values in the range -2147483648 to 214748364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Symbol" charset="2"/>
              <a:buChar char="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rresponds to eight bytes (64 bits). Variables of type long have values in the range -922337203685477580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t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9223372036854775807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sult: rate &gt; 0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I said, \"Are you listening!\"\n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7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Ülevaade kursuse eesmärki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irjandus, vi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oimumisajad, lektor, assistendid, eksam j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aktikumi tööd, tähtajad, põhimõt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oenguk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ava mootor, kompileerimine, eripär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ava, C ja C#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ihtsad näited, muutujad, andmetüüb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8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ariable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ate = 0.0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space = ' 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several variables in the same declaration, if you separate them by commas. For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,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 = 'D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 = 'J'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 = 'E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, j = 17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8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terest calcul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Interest {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e value of the investment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rincipal = 17000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e annual interest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terest earned in one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interest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est = principal * rate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interest earned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interest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one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main()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class Inter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8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lock is the simplest type of statement. Its purpose is simply to group a sequence of statements into a single statement. The format of a block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 are two examples of block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he answer is "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ans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// This block exchanges the values of x and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temp = x;  // declare temp and store x in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9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hile loop has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statement can be, and usually is, a block, many while loops have the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9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n example of a while loop that simply prints out the numbers 1, 2, 3, 4, 5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ber =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 number &lt; 6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number + 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Done!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0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ile LOOP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Interest2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rincipal = 17000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rate = 0.07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years = 0;  // counts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years &lt; 5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interest = principal * rate;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cipal = principal + interes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years + 1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years is $");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while loop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main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end of class Interest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0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f statement has one of the form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usual, each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in an if statement can be a block, so that an if statement often looks lik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) {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12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 stat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x &gt; y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emp = x;  // declare temp and store x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y;         // copy value of y into 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temp;      // copy value of temp into 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ly, here is an example of an if statement that includes 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par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years &gt; 1 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years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years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{  // handle case for 1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he value of the investment after 1 year is $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// end of if 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principal)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217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eesmärk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, eeldused, põhimõt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Õpetada programmeerimise aluseid ja tehnoloogiat üldise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ldad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rget varasemat kokkupuutumist programmeerimisega vähemalt eeldusaine Informaatika II mah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õhk on praktiliste kogemuste ja oskuste omandamisel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praktikumitöö on tähtsam, kui loen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askeelena kasutatakse Javat, vältides samas eriliselt Java-päraseid meetodeid, teeke jms.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i ole spetsiaalne “Java-kursus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ides loodavad rakendused on reeglina käsurea ja omaette akendega rakendused, mitte aplet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lõpetaja on all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GAJ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grammeerij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aeg, koht, eksam, praktiku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d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maspäeviti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00-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uum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-131 (kohe fuajee kõrval). Semestri teisel poolel toimuvad loengud ruumis VI-229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id loeb T.Tamm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kku 16 (?) loeng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aktikumid eraldi AK arvutiklassides: eri gruppidel eri aegadel, 1 praktikum näda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ktikum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rraldavad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ssistend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Mihkel Tammepuu, 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 lõpe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EKSAMIG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use edukaks lõpetamiseks tuleb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ha ära praktilised tööd, neid tuleb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oritada edukalt ek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Kursuse materjali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rsuse www-leh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http://www.lambda.ee/index.php/Programmeerimise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õ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hikurs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mine õpik kursuse juurde on tasuta e-boo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Ec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“Introduction to Programming Using Jav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ourt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ion,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umm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http://math.hws.edu/javanotes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erjalid ilmuvad loengute eel või järel võrku. Alati on olemas loengu üldplaan ja põhipunktid, kuid palju seletavaid detaile on võrgus puudu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ksami ja praktikumi ülesanded ja nõud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ksam: kirjalik, lisamaterjale kasutada ei võ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raktikumi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seseisev töö (ei mingeid gru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sejuhatav ülesanne: see nä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eli ülesan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imene rakendus: tikumäng, ainult tekstili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4. septem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on esialgsed variandid, mida muudetak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kstifailidest mikroandmebaas, ainult tekstili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22 oktoo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võrgurakendus (http-d kasutav kli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ähtae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. nov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-ga connect-four mäng (otsing mängupuus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aeg: 17. dets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0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lulist praktikumi koh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ksamile pääsemiseks peavad olema sooritatud vähemalt kolm neljast praktikumi-ülesandes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hul, kui üks neljast ülesandest jääb realiseerimata, saab selle eest eksamil 10 trahvipunkti (eksami maksimumpunktid on 100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hilinenud ülesanne annab 5 trahvipunkti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ärast 17. detsembrit ei aktsepteerita enam ühtegi ülesanne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a ülesanne tuleb programmeerida iseseisvalt ja näidata praktikumi juhendajale praktikumi ajal ett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-postiga saadetud lahendusi ei aktsepteerit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Ülesande arvestamiseks ütle juhendajale praktikumi ajal ise, kui soovid lahendatud ülesannet näidata: juhendaja ei hakka reeglina ise õigeagselt uurima, et kas on ülesanne ikka teh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Vajalik tarkvara kodus töötamiseks (kes soovib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ava versio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2SE (Java 2 standard edition) SDK (software dev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ment kit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õmba SUN-i lehelt </a:t>
            </a:r>
            <a:r>
              <a:rPr b="0" lang="en-GB" sz="18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http://java.sun.com/j2se/downloads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ähemalt 1.3.1 või uuem versio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! Vajalik on SDK, mitte JRE, ja nimelt J2SE (standard edition), mitte J2ME (micro edition) või J2EE (enterprise edit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ea ja lihtne programmeerisele kohandatud tekstiredaktor. Soovit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aktor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ciTE: http://www.scintilla.org/SciTE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19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Kursuse teema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tember: juhtimiskonstruktsioonid, andm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ktoober: objektid, kasutajaliides ja graafik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vember: otsing, rekursioon, puu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sember: paralleeltöö, metoodika, var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124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08-28T20:33:22Z</dcterms:modified>
  <cp:revision>4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javakursu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